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D36B4-B2FE-4691-8F44-FF662F21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60D16-81E6-4434-BBF1-30EDCD6C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59875-EA2C-40C1-B1E1-B825AF99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8EE9C-1F01-40C8-8EAB-628F8D20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6A915-02B8-486F-9086-E3903FE7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6BF75-C849-4CA8-AFAF-7628F819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9A9A7-7D74-4C6C-8981-8A1F220D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FFC65-A14E-4753-A92E-3FC43122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52E95-E7BB-4D5F-A247-2FB67790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420E0-E68D-49B6-A323-E442ECC9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C643C-EA88-4608-ADC9-85799F78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290A0-E369-443D-BADC-F69AF666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C35A9-A094-47C8-B91D-D38CAD46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C621D-EE1F-43BA-9D98-F927A87D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BBC66-DFD5-4132-B0D3-D3C5C4DE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76243-D7BE-43FE-8AD2-9A60B517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49399-1B4E-4845-B4A5-8E95E845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372D3-8D7A-4AC6-B3E2-95B31C30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5F7C1-BD65-4BD5-99CE-E6AEAE2F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0E7DB-AE78-4EB0-B962-2625B5BE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83D3C-D497-491A-9773-8B2B68A4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187B7-AB18-4041-8BB5-E9383B8A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2AB0E-838B-4CFF-8C5A-71900DB5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BBD31-8159-463D-BBF8-B2B654D3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F354A-B4B2-43D3-B477-96A5AF28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45075-743A-4C0A-92F7-18743FB0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1DC3C-66B7-4FF7-B1B8-654AC4F0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DF925-BB98-4B00-AA8F-47303A23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5F2B1-8628-4EA3-9A0D-9C79EE4C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25275-C2A3-4AD6-AE50-F1C5A0F7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11219-9CA6-4179-9AF7-7A5CE344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3B494-3BB8-4D7F-95BD-9F2A08C0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62CA3-BD15-4AAC-8884-BEBA222D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86D22-FA12-4616-A352-246153CC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7ADB6-902F-45D7-B119-B1E95941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C7048-07A1-43F9-9B4B-01E4A17B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64371-3CEA-45FA-B1BA-7DF9C9B7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678E6-D354-4159-BD99-2354D713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00746-BEF7-4629-8224-30142099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A30CC-7C01-4A68-805F-62D0FA5A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A3F98-AF90-41D1-B8A6-E53AD344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F0275-805D-4EFA-B01F-2D46369C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D0C01-A884-44C8-B07F-E791F285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32076-1F77-4DA6-877E-425F840D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E8397-CAA5-42DD-BDDE-B9476233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5C0BC-FEB3-4830-AEB0-6D65F1E4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FF4D4-1851-45EB-85F1-1C993560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2735E-CDE7-46FD-87BF-57893BB9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1E2C1-3C92-48F8-92FC-71200173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ADDB1-9FAB-4C73-B7CD-7C27AC5E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5C955-2DCF-445C-94B5-277324DD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8DE27-E6FF-462E-A29B-039BBECC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AFE78-F6A0-4599-AB42-0E24AC5D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2CACA-ABB8-4AD8-8E73-DF87C951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E66C4-12EC-4A19-9884-FC404226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7D661-05F8-4060-9CCE-1DD369FD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93B1C-2E96-4976-8472-DDF89087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33233-62BD-463C-9E31-12F8E4C5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61D1C-0F07-41E5-A28D-31D7B775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CBEDA-03E9-42E1-B5BC-09B78C97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8E6F1-BE54-42CC-8867-D3BD7B7B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E0C52-F4E4-4C6A-87E4-7DC9DAE6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FBBB3-62DF-4EFD-A10B-5F49C550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8A3B4-9B47-4A49-8907-6FB876B6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633A5-7387-472B-A506-2CD228A1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37C2D-D272-4C82-90E9-D3D16A66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AF3FE-A0A8-4E74-AA54-A31FFD18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B3191-B2E0-46AD-A44C-EB8388AA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E0979-02F5-4A02-AFBB-6D816991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4AD-60E5-4FC2-B7C3-D54485C4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D83-B695-49B3-B3B7-4BB01957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B6EF-A838-4CBF-BBAA-6585B231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799-7F27-47A1-924C-7111544C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EA8-B975-4095-8CC0-DFC9FB5E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4E2-340C-44F4-BEE6-A1119349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599-1A69-45BB-9A80-362E9CA1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34BC-7B12-4E5F-B254-D1C04D83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C53D-AC68-4C72-9AD7-46CB6F97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3781-4E32-409D-8707-3F7EA64B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F78B-F850-4A76-9D6E-71BB8349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C97-FED4-42CB-A8CC-C6D80719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BBFC-0A1F-4568-8527-3642918E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897C-CF46-420F-ADF2-FE2194E5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ABE6-B03B-4005-8C3D-37224404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08D9-B5AC-455A-8B2C-10F5D9D2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F87F-DE59-4052-B485-7B39FD2E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C0A1-7DB5-42EF-A516-6DAA60E0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79D4-2C5B-4B50-905E-DF350CD2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7DFF-68C8-49F9-AF89-67DBCCA6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FE0A-D8C2-47C5-A74C-11C09CBD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A358-1489-4F6B-9A46-24C465B1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2473-0A7C-469A-859D-9991C07A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616F-1B87-4893-823E-50C4ED90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7F980-2A91-4774-8620-C8B9AD93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9F2C0-C9AC-4915-BFEA-8C623D66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57593-C074-47B4-8B29-09010179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30A50-E90F-47CB-BCF5-F62CE5D7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36AE9-19E1-4E64-9973-25DA3A12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2085F-4BC3-4293-816A-452B73F0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358A7-E756-45F8-822F-C89B0D02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832E4-40D9-48B7-9D7E-6777FD5C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6457D-29B1-4E66-A032-2D92F9F3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48200-749A-4759-B49D-A8DED16F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357CE-2C92-48A5-A47B-4888E9C9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49C8C-2902-4336-A591-05569E48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196F2-CBD4-4708-BED5-59FD5E6E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74AE5-DB08-4799-A462-F80A36B5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B61CC-39C0-4682-BB56-9F35BE5E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7BBA6-42BB-4CC4-B0CB-3496E03F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06219-14AA-4E67-9AFC-98AF80CC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D7FC1-5963-464B-94CA-20C4AB8A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B4290-8F68-491A-91E9-7F02BA2C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AACCF-4CCB-47A1-9394-E8E0807E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0FF41-418F-49FF-87CE-4E121528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8AC2A-4878-4AC7-A5F8-6DB5FCB6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17DA8-F09C-49FF-BB76-80AD035A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B4D6D-6A63-4F58-A91D-2BF4F2EF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2BFF8-77B9-48EF-A5DB-3906CAC1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21057-548E-425D-A496-B4664F1A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B9712-8CA1-41C9-9DEA-30FAB238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7C031-8A55-4D79-9AE0-6A60CB85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EC170-D3A5-4D52-82B9-E2FDCE92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755640" y="356760"/>
            <a:ext cx="78487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3DA3E-282A-4AA7-83F1-2F98C0C6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95CFA-0C3B-473E-ABEB-C699DE22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4F8CF-791D-4D02-8A19-ED2D7D1A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4DE3F-EA5E-4F2B-A689-8B381302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55640" y="3412800"/>
            <a:ext cx="78487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36A6B-AC44-4F89-AC1B-116E14B7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77560" y="126828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5564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77560" y="3412800"/>
            <a:ext cx="38300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F5AA2-F9D2-407B-BC84-26EDAEC1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40956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63480" y="126828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5564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40956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63480" y="3412800"/>
            <a:ext cx="2527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286D1-C768-4415-B9FC-24D53E17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9B912-67BB-4377-BCBE-19159226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201A8-9EDF-4BD0-AFF2-60C6BBE8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1DCAB-F686-4179-8350-5DBCE6BB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8487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387" name="Straight Connector 8" descr=""/>
          <p:cNvPicPr/>
          <p:nvPr/>
        </p:nvPicPr>
        <p:blipFill>
          <a:blip r:embed="rId4"/>
          <a:stretch/>
        </p:blipFill>
        <p:spPr>
          <a:xfrm>
            <a:off x="798480" y="1054080"/>
            <a:ext cx="8467920" cy="1843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EBCF-35FF-4413-BE20-1FD85D8B3D6E}" type="slidenum">
              <a:rPr b="0" lang="en-A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431" name="Straight Connector 8" descr=""/>
          <p:cNvPicPr/>
          <p:nvPr/>
        </p:nvPicPr>
        <p:blipFill>
          <a:blip r:embed="rId4"/>
          <a:stretch/>
        </p:blipFill>
        <p:spPr>
          <a:xfrm>
            <a:off x="798480" y="1054080"/>
            <a:ext cx="8467920" cy="184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AE6F-2D0E-48AC-9F8E-F877634F9798}" type="slidenum">
              <a:rPr b="0" lang="en-A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475" name="Straight Connector 8" descr=""/>
          <p:cNvPicPr/>
          <p:nvPr/>
        </p:nvPicPr>
        <p:blipFill>
          <a:blip r:embed="rId4"/>
          <a:stretch/>
        </p:blipFill>
        <p:spPr>
          <a:xfrm>
            <a:off x="798480" y="1054080"/>
            <a:ext cx="8467920" cy="18432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E9B1-D640-410D-8410-DBF6D4052CA6}" type="slidenum">
              <a:rPr b="0" lang="en-A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519" name="Straight Connector 8" descr=""/>
          <p:cNvPicPr/>
          <p:nvPr/>
        </p:nvPicPr>
        <p:blipFill>
          <a:blip r:embed="rId4"/>
          <a:stretch/>
        </p:blipFill>
        <p:spPr>
          <a:xfrm>
            <a:off x="798480" y="1054080"/>
            <a:ext cx="8467920" cy="18432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5C29-EB0A-41ED-9B8A-334DE1603A01}" type="slidenum">
              <a:rPr b="0" lang="en-A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563" name="Straight Connector 8" descr=""/>
          <p:cNvPicPr/>
          <p:nvPr/>
        </p:nvPicPr>
        <p:blipFill>
          <a:blip r:embed="rId4"/>
          <a:stretch/>
        </p:blipFill>
        <p:spPr>
          <a:xfrm>
            <a:off x="798480" y="1054080"/>
            <a:ext cx="8467920" cy="1843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A148-3D6B-47E2-9377-8005B0F37807}" type="slidenum">
              <a:rPr b="0" lang="en-A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42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44" name="Straight Connector 8" descr=""/>
          <p:cNvPicPr/>
          <p:nvPr/>
        </p:nvPicPr>
        <p:blipFill>
          <a:blip r:embed="rId4"/>
          <a:stretch/>
        </p:blipFill>
        <p:spPr>
          <a:xfrm>
            <a:off x="798480" y="1054080"/>
            <a:ext cx="8467920" cy="18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8487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3AB1-BE0A-4EA1-B9A7-CFDEFEFFB36F}" type="slidenum">
              <a:rPr b="0" lang="en-A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CPET_logo_RGBcolour.jpg"/>
          <p:cNvPicPr/>
          <p:nvPr/>
        </p:nvPicPr>
        <p:blipFill>
          <a:blip r:embed="rId4"/>
          <a:stretch/>
        </p:blipFill>
        <p:spPr>
          <a:xfrm>
            <a:off x="6084720" y="4672080"/>
            <a:ext cx="2519640" cy="701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8487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167" name="Straight Connector 8" descr=""/>
          <p:cNvPicPr/>
          <p:nvPr/>
        </p:nvPicPr>
        <p:blipFill>
          <a:blip r:embed="rId4"/>
          <a:stretch/>
        </p:blipFill>
        <p:spPr>
          <a:xfrm>
            <a:off x="798480" y="1054080"/>
            <a:ext cx="8467920" cy="1843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F5AF-6CD8-46BF-A688-BF666724BEED}" type="slidenum">
              <a:rPr b="0" lang="en-A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211" name="Straight Connector 8" descr=""/>
          <p:cNvPicPr/>
          <p:nvPr/>
        </p:nvPicPr>
        <p:blipFill>
          <a:blip r:embed="rId4"/>
          <a:stretch/>
        </p:blipFill>
        <p:spPr>
          <a:xfrm>
            <a:off x="798480" y="1054080"/>
            <a:ext cx="8467920" cy="1843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D586-E188-4178-B8FE-F97CC4B372BE}" type="slidenum">
              <a:rPr b="0" lang="en-A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255" name="Straight Connector 8" descr=""/>
          <p:cNvPicPr/>
          <p:nvPr/>
        </p:nvPicPr>
        <p:blipFill>
          <a:blip r:embed="rId4"/>
          <a:stretch/>
        </p:blipFill>
        <p:spPr>
          <a:xfrm>
            <a:off x="798480" y="1054080"/>
            <a:ext cx="8467920" cy="1843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5C7D-FCEC-4D22-BC8E-23716A41BC00}" type="slidenum">
              <a:rPr b="0" lang="en-A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299" name="Straight Connector 8" descr=""/>
          <p:cNvPicPr/>
          <p:nvPr/>
        </p:nvPicPr>
        <p:blipFill>
          <a:blip r:embed="rId4"/>
          <a:stretch/>
        </p:blipFill>
        <p:spPr>
          <a:xfrm>
            <a:off x="798480" y="1054080"/>
            <a:ext cx="8467920" cy="1843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2F96-2B35-4C28-A9B4-08485D8F4963}" type="slidenum">
              <a:rPr b="0" lang="en-A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6" descr="Book_banner.jpg"/>
          <p:cNvPicPr/>
          <p:nvPr/>
        </p:nvPicPr>
        <p:blipFill>
          <a:blip r:embed="rId2"/>
          <a:stretch/>
        </p:blipFill>
        <p:spPr>
          <a:xfrm>
            <a:off x="0" y="545616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top_bann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pic>
        <p:nvPicPr>
          <p:cNvPr id="343" name="Straight Connector 8" descr=""/>
          <p:cNvPicPr/>
          <p:nvPr/>
        </p:nvPicPr>
        <p:blipFill>
          <a:blip r:embed="rId4"/>
          <a:stretch/>
        </p:blipFill>
        <p:spPr>
          <a:xfrm>
            <a:off x="798480" y="1054080"/>
            <a:ext cx="8467920" cy="1843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DE6D-2692-447F-84B0-9F74DDFC7BA5}" type="slidenum">
              <a:rPr b="0" lang="en-A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84872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c00000"/>
                </a:solidFill>
                <a:latin typeface="Calibri"/>
              </a:rPr>
              <a:t>vStream</a:t>
            </a:r>
            <a:r>
              <a:rPr b="0" lang="en-AU" sz="6000" spc="-1" strike="noStrike">
                <a:solidFill>
                  <a:srgbClr val="c00000"/>
                </a:solidFill>
                <a:latin typeface="Calibri"/>
              </a:rPr>
              <a:t>  </a:t>
            </a:r>
            <a:br>
              <a:rPr sz="2800"/>
            </a:br>
            <a:br>
              <a:rPr sz="2800"/>
            </a:br>
            <a:r>
              <a:rPr b="0" lang="en-AU" sz="4800" spc="-1" strike="noStrike">
                <a:solidFill>
                  <a:srgbClr val="1f497d"/>
                </a:solidFill>
                <a:latin typeface="Calibri"/>
              </a:rPr>
              <a:t>ACPET National NBN </a:t>
            </a:r>
            <a:br>
              <a:rPr sz="4800"/>
            </a:br>
            <a:r>
              <a:rPr b="0" lang="en-AU" sz="4800" spc="-1" strike="noStrike">
                <a:solidFill>
                  <a:srgbClr val="1f497d"/>
                </a:solidFill>
                <a:latin typeface="Calibri"/>
              </a:rPr>
              <a:t>E-Learning Program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68360" y="4724280"/>
            <a:ext cx="8136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f497d"/>
                </a:solidFill>
                <a:latin typeface="Calibri"/>
              </a:rPr>
              <a:t>Sherrill Lister, ACPET NBN E-learning Project Offic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f497d"/>
                </a:solidFill>
                <a:latin typeface="Calibri"/>
              </a:rPr>
              <a:t>Melanie Worrall, ACPET NBN E-learning Facilit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84872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00000"/>
                </a:solidFill>
                <a:latin typeface="Calibri"/>
              </a:rPr>
              <a:t>vStream 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755640" y="126828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1f497d"/>
                </a:solidFill>
                <a:latin typeface="Calibri"/>
              </a:rPr>
              <a:t>Program 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1f497d"/>
                </a:solidFill>
                <a:latin typeface="Calibri"/>
              </a:rPr>
              <a:t>Participating RTOs and NBN rollout areas includ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1f497d"/>
                </a:solidFill>
                <a:latin typeface="Calibri"/>
              </a:rPr>
              <a:t>National coverage of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1f497d"/>
                </a:solidFill>
                <a:latin typeface="Calibri"/>
              </a:rPr>
              <a:t>Industry areas cover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1f497d"/>
                </a:solidFill>
                <a:latin typeface="Calibri"/>
              </a:rPr>
              <a:t>Project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00000"/>
                </a:solidFill>
                <a:latin typeface="Calibri"/>
              </a:rPr>
              <a:t>vStream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755640" y="1341000"/>
            <a:ext cx="8137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Experiment and develop e-learning, e-assessment, online RPL tools, platforms and system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Use common freeware, cost-effective tools and cloud application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High definition video streaming and communication, using mobile technologies, including iPad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Telepresence for tutors, trainers, assessors, learner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Develop an RTO NBN-enabled capability framework for application by RTOs nationally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00000"/>
                </a:solidFill>
                <a:latin typeface="Calibri"/>
              </a:rPr>
              <a:t>Participating R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55280" y="134100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c00000"/>
                </a:solidFill>
                <a:latin typeface="Calibri"/>
              </a:rPr>
              <a:t>5 RTOs across 5 States targeting 12 NBN rollout sites:</a:t>
            </a:r>
            <a:endParaRPr b="0" lang="en-US" sz="29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c00000"/>
                </a:solidFill>
                <a:latin typeface="Calibri"/>
              </a:rPr>
              <a:t>WA</a:t>
            </a:r>
            <a:r>
              <a:rPr b="0" lang="en-AU" sz="2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AU" sz="2100" spc="-1" strike="noStrike">
                <a:solidFill>
                  <a:srgbClr val="1f497d"/>
                </a:solidFill>
                <a:latin typeface="Calibri"/>
              </a:rPr>
              <a:t>Kingston Training and Employment 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AU" sz="2100" spc="-1" strike="noStrike">
                <a:solidFill>
                  <a:srgbClr val="1f497d"/>
                </a:solidFill>
                <a:latin typeface="Calibri"/>
              </a:rPr>
              <a:t>Australasian Academy of Cosmetic Dermal Science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n-AU" sz="2100" spc="-1" strike="noStrike">
                <a:solidFill>
                  <a:srgbClr val="1f497d"/>
                </a:solidFill>
                <a:latin typeface="Calibri"/>
              </a:rPr>
              <a:t>NBN Roll out sites: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   Geraldton, Mandurah, South Perth, 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                     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Victoria Park, Meadow Springs 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c00000"/>
                </a:solidFill>
                <a:latin typeface="Calibri"/>
              </a:rPr>
              <a:t>NSW</a:t>
            </a:r>
            <a:r>
              <a:rPr b="0" lang="en-AU" sz="2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AU" sz="2100" spc="-1" strike="noStrike">
                <a:solidFill>
                  <a:srgbClr val="1f497d"/>
                </a:solidFill>
                <a:latin typeface="Calibri"/>
              </a:rPr>
              <a:t>BCA National 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n-AU" sz="2100" spc="-1" strike="noStrike">
                <a:solidFill>
                  <a:srgbClr val="1f497d"/>
                </a:solidFill>
                <a:latin typeface="Calibri"/>
              </a:rPr>
              <a:t>NBN Roll out sites: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   Armidale, Sydney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c00000"/>
                </a:solidFill>
                <a:latin typeface="Calibri"/>
              </a:rPr>
              <a:t>NT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AU" sz="2100" spc="-1" strike="noStrike">
                <a:solidFill>
                  <a:srgbClr val="1f497d"/>
                </a:solidFill>
                <a:latin typeface="Calibri"/>
              </a:rPr>
              <a:t>BCA National</a:t>
            </a:r>
            <a:r>
              <a:rPr b="1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n-AU" sz="2100" spc="-1" strike="noStrike">
                <a:solidFill>
                  <a:srgbClr val="1f497d"/>
                </a:solidFill>
                <a:latin typeface="Calibri"/>
              </a:rPr>
              <a:t> NBN Roll out site: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   Darwin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c00000"/>
                </a:solidFill>
                <a:latin typeface="Calibri"/>
              </a:rPr>
              <a:t>SA</a:t>
            </a:r>
            <a:r>
              <a:rPr b="0" lang="en-AU" sz="2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AU" sz="2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AU" sz="2100" spc="-1" strike="noStrike">
                <a:solidFill>
                  <a:srgbClr val="1f497d"/>
                </a:solidFill>
                <a:latin typeface="Calibri"/>
              </a:rPr>
              <a:t>Community Services Training and Development Centre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n-AU" sz="2100" spc="-1" strike="noStrike">
                <a:solidFill>
                  <a:srgbClr val="1f497d"/>
                </a:solidFill>
                <a:latin typeface="Calibri"/>
              </a:rPr>
              <a:t>NBN Roll out sites:  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Willunga, Aldinga Beach, Seaford 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c00000"/>
                </a:solidFill>
                <a:latin typeface="Calibri"/>
              </a:rPr>
              <a:t>Vic</a:t>
            </a:r>
            <a:r>
              <a:rPr b="0" lang="en-AU" sz="2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AU" sz="2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AU" sz="2100" spc="-1" strike="noStrike">
                <a:solidFill>
                  <a:srgbClr val="1f497d"/>
                </a:solidFill>
                <a:latin typeface="Calibri"/>
              </a:rPr>
              <a:t>JobCo</a:t>
            </a:r>
            <a:r>
              <a:rPr b="1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AU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n-AU" sz="2100" spc="-1" strike="noStrike">
                <a:solidFill>
                  <a:srgbClr val="1f497d"/>
                </a:solidFill>
                <a:latin typeface="Calibri"/>
              </a:rPr>
              <a:t>NBN Roll out site:  </a:t>
            </a:r>
            <a:r>
              <a:rPr b="0" lang="en-AU" sz="2100" spc="-1" strike="noStrike">
                <a:solidFill>
                  <a:srgbClr val="1f497d"/>
                </a:solidFill>
                <a:latin typeface="Calibri"/>
              </a:rPr>
              <a:t>Brunswick </a:t>
            </a:r>
            <a:endParaRPr b="0" lang="en-US" sz="2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00000"/>
                </a:solidFill>
                <a:latin typeface="Calibri"/>
              </a:rPr>
              <a:t>Map of vStream cove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Content Placeholder 4" descr="australiaMap.png"/>
          <p:cNvPicPr/>
          <p:nvPr/>
        </p:nvPicPr>
        <p:blipFill>
          <a:blip r:embed="rId1"/>
          <a:stretch/>
        </p:blipFill>
        <p:spPr>
          <a:xfrm>
            <a:off x="468360" y="1268280"/>
            <a:ext cx="4621320" cy="432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5" name=""/>
          <p:cNvGraphicFramePr/>
          <p:nvPr/>
        </p:nvGraphicFramePr>
        <p:xfrm>
          <a:off x="5435640" y="1476360"/>
          <a:ext cx="3529080" cy="3728880"/>
        </p:xfrm>
        <a:graphic>
          <a:graphicData uri="http://schemas.openxmlformats.org/drawingml/2006/table">
            <a:tbl>
              <a:tblPr/>
              <a:tblGrid>
                <a:gridCol w="654120"/>
                <a:gridCol w="353880"/>
                <a:gridCol w="25210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CA National (NS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CA National (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ty Services Training and Development Centre (CSTDC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b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ngston Training and Employ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tralasian Academy of Cosmetic Dermal Sc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6" name="Flowchart: Connector 9"/>
          <p:cNvSpPr/>
          <p:nvPr/>
        </p:nvSpPr>
        <p:spPr>
          <a:xfrm>
            <a:off x="6300720" y="4014720"/>
            <a:ext cx="142920" cy="142920"/>
          </a:xfrm>
          <a:prstGeom prst="flowChartConnector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lowchart: Connector 10"/>
          <p:cNvSpPr/>
          <p:nvPr/>
        </p:nvSpPr>
        <p:spPr>
          <a:xfrm>
            <a:off x="6300720" y="1557360"/>
            <a:ext cx="142920" cy="142920"/>
          </a:xfrm>
          <a:prstGeom prst="flowChartConnector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lowchart: Connector 11"/>
          <p:cNvSpPr/>
          <p:nvPr/>
        </p:nvSpPr>
        <p:spPr>
          <a:xfrm>
            <a:off x="6300720" y="2070000"/>
            <a:ext cx="142920" cy="144720"/>
          </a:xfrm>
          <a:prstGeom prst="flowChartConnector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lowchart: Connector 12"/>
          <p:cNvSpPr/>
          <p:nvPr/>
        </p:nvSpPr>
        <p:spPr>
          <a:xfrm>
            <a:off x="6300720" y="2592360"/>
            <a:ext cx="142920" cy="142920"/>
          </a:xfrm>
          <a:prstGeom prst="flowChartConnector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lowchart: Connector 13"/>
          <p:cNvSpPr/>
          <p:nvPr/>
        </p:nvSpPr>
        <p:spPr>
          <a:xfrm>
            <a:off x="6300720" y="3492360"/>
            <a:ext cx="142920" cy="142920"/>
          </a:xfrm>
          <a:prstGeom prst="flowChartConnector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lowchart: Connector 14"/>
          <p:cNvSpPr/>
          <p:nvPr/>
        </p:nvSpPr>
        <p:spPr>
          <a:xfrm>
            <a:off x="4572000" y="4221000"/>
            <a:ext cx="144360" cy="144720"/>
          </a:xfrm>
          <a:prstGeom prst="flowChartConnector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lowchart: Connector 15"/>
          <p:cNvSpPr/>
          <p:nvPr/>
        </p:nvSpPr>
        <p:spPr>
          <a:xfrm>
            <a:off x="4716360" y="3860640"/>
            <a:ext cx="142920" cy="144720"/>
          </a:xfrm>
          <a:prstGeom prst="flowChartConnector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lowchart: Connector 16"/>
          <p:cNvSpPr/>
          <p:nvPr/>
        </p:nvSpPr>
        <p:spPr>
          <a:xfrm>
            <a:off x="2411280" y="1484280"/>
            <a:ext cx="144720" cy="144360"/>
          </a:xfrm>
          <a:prstGeom prst="flowChartConnector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lowchart: Connector 17"/>
          <p:cNvSpPr/>
          <p:nvPr/>
        </p:nvSpPr>
        <p:spPr>
          <a:xfrm>
            <a:off x="3348000" y="4365720"/>
            <a:ext cx="144360" cy="142920"/>
          </a:xfrm>
          <a:prstGeom prst="flowChartConnector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lowchart: Connector 18"/>
          <p:cNvSpPr/>
          <p:nvPr/>
        </p:nvSpPr>
        <p:spPr>
          <a:xfrm>
            <a:off x="3276720" y="4292640"/>
            <a:ext cx="142920" cy="144360"/>
          </a:xfrm>
          <a:prstGeom prst="flowChartConnector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lowchart: Connector 19"/>
          <p:cNvSpPr/>
          <p:nvPr/>
        </p:nvSpPr>
        <p:spPr>
          <a:xfrm>
            <a:off x="3348000" y="4292640"/>
            <a:ext cx="144360" cy="144360"/>
          </a:xfrm>
          <a:prstGeom prst="flowChartConnector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lowchart: Connector 20"/>
          <p:cNvSpPr/>
          <p:nvPr/>
        </p:nvSpPr>
        <p:spPr>
          <a:xfrm>
            <a:off x="3924360" y="4724280"/>
            <a:ext cx="142920" cy="144720"/>
          </a:xfrm>
          <a:prstGeom prst="flowChartConnector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lowchart: Connector 21"/>
          <p:cNvSpPr/>
          <p:nvPr/>
        </p:nvSpPr>
        <p:spPr>
          <a:xfrm>
            <a:off x="684360" y="3645000"/>
            <a:ext cx="142560" cy="144360"/>
          </a:xfrm>
          <a:prstGeom prst="flowChartConnector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lowchart: Connector 22"/>
          <p:cNvSpPr/>
          <p:nvPr/>
        </p:nvSpPr>
        <p:spPr>
          <a:xfrm>
            <a:off x="900000" y="4005360"/>
            <a:ext cx="142920" cy="144360"/>
          </a:xfrm>
          <a:prstGeom prst="flowChartConnector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lowchart: Connector 23"/>
          <p:cNvSpPr/>
          <p:nvPr/>
        </p:nvSpPr>
        <p:spPr>
          <a:xfrm>
            <a:off x="900000" y="4149720"/>
            <a:ext cx="142920" cy="142920"/>
          </a:xfrm>
          <a:prstGeom prst="flowChartConnector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lowchart: Connector 24"/>
          <p:cNvSpPr/>
          <p:nvPr/>
        </p:nvSpPr>
        <p:spPr>
          <a:xfrm>
            <a:off x="971640" y="4076640"/>
            <a:ext cx="144360" cy="144360"/>
          </a:xfrm>
          <a:prstGeom prst="flowChartConnector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lowchart: Connector 25"/>
          <p:cNvSpPr/>
          <p:nvPr/>
        </p:nvSpPr>
        <p:spPr>
          <a:xfrm>
            <a:off x="971640" y="4005360"/>
            <a:ext cx="144360" cy="144360"/>
          </a:xfrm>
          <a:prstGeom prst="flowChartConnector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00000"/>
                </a:solidFill>
                <a:latin typeface="Calibri"/>
              </a:rPr>
              <a:t>Industry 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755640" y="1413000"/>
            <a:ext cx="7848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f497d"/>
                </a:solidFill>
                <a:latin typeface="Calibri"/>
              </a:rPr>
              <a:t>Health and Beauty Practice Managemen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f497d"/>
                </a:solidFill>
                <a:latin typeface="Calibri"/>
              </a:rPr>
              <a:t>Business Service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f497d"/>
                </a:solidFill>
                <a:latin typeface="Calibri"/>
              </a:rPr>
              <a:t>Community Services – Aged Care, Home and Community Care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f497d"/>
                </a:solidFill>
                <a:latin typeface="Calibri"/>
              </a:rPr>
              <a:t>Financial Service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f497d"/>
                </a:solidFill>
                <a:latin typeface="Calibri"/>
              </a:rPr>
              <a:t>Conservation and Land Managemen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1f497d"/>
                </a:solidFill>
                <a:latin typeface="Calibri"/>
              </a:rPr>
              <a:t>Dental Assis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00000"/>
                </a:solidFill>
                <a:latin typeface="Calibri"/>
              </a:rPr>
              <a:t>Project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95280" y="1341000"/>
            <a:ext cx="874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Vstream Program meetings, action planning, communication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using Elluminate or video conferencing </a:t>
            </a:r>
            <a:r>
              <a:rPr b="0" i="1" lang="en-AU" sz="2000" spc="-1" strike="noStrike">
                <a:solidFill>
                  <a:srgbClr val="1f497d"/>
                </a:solidFill>
                <a:latin typeface="Calibri"/>
              </a:rPr>
              <a:t>(ongoing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Vstream Program Induction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Action research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Organisational readiness assessment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Action learning workshops </a:t>
            </a:r>
            <a:r>
              <a:rPr b="0" i="1" lang="en-AU" sz="2000" spc="-1" strike="noStrike">
                <a:solidFill>
                  <a:srgbClr val="1f497d"/>
                </a:solidFill>
                <a:latin typeface="Calibri"/>
              </a:rPr>
              <a:t>(fortnightly)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Progress meetings on individual action plans </a:t>
            </a:r>
            <a:r>
              <a:rPr b="0" i="1" lang="en-AU" sz="2000" spc="-1" strike="noStrike">
                <a:solidFill>
                  <a:srgbClr val="1f497d"/>
                </a:solidFill>
                <a:latin typeface="Calibri"/>
              </a:rPr>
              <a:t>(alternating fortnight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Development phase, testing and review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Facilitation and delivery of pilot programs </a:t>
            </a:r>
            <a:r>
              <a:rPr b="0" i="1" lang="en-AU" sz="2000" spc="-1" strike="noStrike">
                <a:solidFill>
                  <a:srgbClr val="1f497d"/>
                </a:solidFill>
                <a:latin typeface="Calibri"/>
              </a:rPr>
              <a:t>(at least 10 learners per RTO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Review  of Vstream pilot program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f497d"/>
                </a:solidFill>
                <a:latin typeface="Calibri"/>
              </a:rPr>
              <a:t>Draft and final report, dissemination strategie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00000"/>
                </a:solidFill>
                <a:latin typeface="Calibri"/>
              </a:rPr>
              <a:t>vStream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755280" y="1413000"/>
            <a:ext cx="8388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Project Managers</a:t>
            </a: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Wendy Perry and Joy de Leo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Project Officer</a:t>
            </a: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Sherrill Lister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Facilitator</a:t>
            </a: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Melanie Worrall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ACPET Executive Officers in 5 States: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Michael Hall (NT), Joy de Leo (SA), Maria Langwell (Vic), Catherine Kearney (NSW), Trevor McCrystal (WA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f497d"/>
                </a:solidFill>
                <a:latin typeface="Calibri"/>
              </a:rPr>
              <a:t>5 Participating RTOs in 5 States </a:t>
            </a:r>
            <a:r>
              <a:rPr b="0" i="1" lang="en-AU" sz="2400" spc="-1" strike="noStrike">
                <a:solidFill>
                  <a:srgbClr val="1f497d"/>
                </a:solidFill>
                <a:latin typeface="Calibri"/>
              </a:rPr>
              <a:t>(2 representatives each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55640" y="356760"/>
            <a:ext cx="784872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1f497d"/>
                </a:solidFill>
                <a:latin typeface="Calibri"/>
              </a:rPr>
              <a:t>The quality stam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3" descr="ACPET_logo_RGBcolour.jpg"/>
          <p:cNvPicPr/>
          <p:nvPr/>
        </p:nvPicPr>
        <p:blipFill>
          <a:blip r:embed="rId1"/>
          <a:stretch/>
        </p:blipFill>
        <p:spPr>
          <a:xfrm>
            <a:off x="900000" y="2500200"/>
            <a:ext cx="54007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00:08:16Z</dcterms:created>
  <dc:creator>tbancroft</dc:creator>
  <dc:description/>
  <dc:language>en-US</dc:language>
  <cp:lastModifiedBy>jdeleo</cp:lastModifiedBy>
  <dcterms:modified xsi:type="dcterms:W3CDTF">2011-12-13T04:39:20Z</dcterms:modified>
  <cp:revision>35</cp:revision>
  <dc:subject/>
  <dc:title>Slide 1</dc:title>
</cp:coreProperties>
</file>